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05B6-E1E1-4149-A1F2-913E090418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0BB-617B-4541-B8FF-557407CF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406-7015-4243-B3E5-46343D96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2E2-371A-4F1C-BA50-65DD7888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B49-4C06-4C69-A282-C4930CDB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6CC7-1574-4CB8-9CDB-DC4EE136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4E67-4666-4B48-BF9D-A86C7F89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0A02-F36E-416C-BE74-2FA52D52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998A-6F68-4B46-B333-58517921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A7CC-F106-490E-8809-23713DD2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3F28-3F87-408C-96E9-9B010401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FAAB-DE65-44C0-8416-B4329377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096-08AB-45CC-B89C-718BC054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D975-7DB4-444E-8298-963ECB17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F368-8C9E-4A52-BEF0-BC7FE55A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BE22-EBF4-47B4-BC66-13CCF803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1FFE-91FF-4352-A157-DFED7F1B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4DE7-7C41-4105-BD34-8F49320B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75E-A5ED-4B92-8708-BADCBEB9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155-14F5-491C-9542-0F30E86B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E8E-A656-41FC-8B2C-7935BEB6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1E7-032D-488B-AB17-804E1EBB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377-B08F-4F62-AD1E-08158299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180-3585-4663-9932-09947D06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C55-F01B-4132-8E83-E4489781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4093-1B41-45BD-8677-A04D1EF0AF2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5CD6-10CC-4571-961D-3BDF9BCC52A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LEGION</cp:lastModifiedBy>
  <dcterms:modified xsi:type="dcterms:W3CDTF">2017-07-03T10:43:17Z</dcterms:modified>
  <cp:revision>75</cp:revision>
  <dc:subject/>
  <dc:title>Units 4 &amp; 5 </dc:title>
</cp:coreProperties>
</file>